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D48-F4BF-4CBB-8462-DE9E5235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BBD-F5B3-4017-A4E2-1CAD9D7D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E2A-3365-43DA-BA89-45303A26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C3B-C3BA-430D-9E4B-DD6F0C1A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D4D-A5F7-48DD-9094-1D3B8D1F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F78-7B8B-4B85-8FF8-C17CCFE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D18-EAF2-41DB-81C7-B11712A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95B-8095-49B2-B83B-65650648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FE9-B128-4B7B-9DED-363700E9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A4F-63B2-41E3-9107-7CDC3EA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FC1-034B-4198-B638-55FE06A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251-506F-4C66-8C2B-F80B5D5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512-DA0B-42DA-9485-29242930E6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мена существительные собственные и нарицательны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ла ученик 5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ягин Кири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Что такое имя существительн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2840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мя существительное  – это часть речи, обозначающая предмет и выражающая это значение в словоизменительных категориях числа и падежа и в несловоизменительной категории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уществительное называет предметы в широком смысле слова; это – названия вещей (стол, стена, окно, ножницы, сани), лиц (ребенок, девочка, юноша, женщина, человек), веществ (крупа, мука, сахар, сливки), живых существ и организмов (кошка, собака, ворона, дятел, змея, окунь, щука; бактерия, вирус, микроб), фактов, событий, явлений (пожар, спектакль, беседа, каникулы, печаль, страх), а также качеств, свойств, действий, состояний (доброта, глупость, синева, бег, решение, толкотн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Monotype Corsiva"/>
              </a:rPr>
              <a:t>Нарицательные существительные.</a:t>
            </a: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ательные имена существительные называют однородные предметы, которые имеют что-то общее, одинаковое, какое-то сходство (птиц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15" descr="i.jpeg"/>
          <p:cNvPicPr/>
          <p:nvPr/>
        </p:nvPicPr>
        <p:blipFill>
          <a:blip r:embed="rId1"/>
          <a:stretch/>
        </p:blipFill>
        <p:spPr>
          <a:xfrm>
            <a:off x="3575160" y="785880"/>
            <a:ext cx="5111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бственные существ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10.jpg"/>
          <p:cNvPicPr/>
          <p:nvPr/>
        </p:nvPicPr>
        <p:blipFill>
          <a:blip r:embed="rId1"/>
          <a:stretch/>
        </p:blipFill>
        <p:spPr>
          <a:xfrm>
            <a:off x="4030560" y="272880"/>
            <a:ext cx="4200480" cy="585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40056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имена существительные — это названия отдельных лиц, единичных предметов. К собственным именам существительным относятся: 1) имена, фамилии, прозвища, клички (Пётр, Иванов, Шарик); 2) географические названия (Кавказ, Сибирь, Средняя Азия); 3) астрономические названия (Юпитер, Венера, Сатурн); 4) названия праздников (Новый год, День учителя, День защитника Отечества); 5) названия газет, журналов, художественных произведений, предприятий (газета «Труд», роман «Воскресение», издательство «Просвещение»)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к на письме различаются имена собственные и нарицательные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28920"/>
            <a:ext cx="8001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се имена </a:t>
            </a:r>
            <a:r>
              <a:rPr b="1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обственные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ишутся с большой буквы (Москва, Арктика), некоторые также берутся в кавычки (кинотеатр «Космос», газета «Вечерняя Москва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се имена </a:t>
            </a:r>
            <a:r>
              <a:rPr b="1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нарицательные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пишутся с маленькой буквы </a:t>
            </a:r>
            <a:r>
              <a:rPr b="1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сегда.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28800" y="1285560"/>
            <a:ext cx="7572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www.traktat.com/language/book/sush/sob.php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rusgram.narod.ru/1121-1146.html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ru.wikipedia.org/wiki/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Нарица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27:02Z</dcterms:created>
  <dc:creator>НАСТАСЬЯ</dc:creator>
  <dc:description/>
  <dc:language>en-US</dc:language>
  <cp:lastModifiedBy>UserXP</cp:lastModifiedBy>
  <dcterms:modified xsi:type="dcterms:W3CDTF">2010-04-28T17:01:59Z</dcterms:modified>
  <cp:revision>5</cp:revision>
  <dc:subject/>
  <dc:title>Имена существительные собственные и нарицательные.</dc:title>
</cp:coreProperties>
</file>